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AB3-570A-474D-A4E0-9DA99778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E72-E7E1-4952-8FCC-F03E727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A75-103E-4AE5-8DA2-A157A542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0C7-CB23-40B2-BCCE-C6A547BA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CD4-5979-494B-8882-CD9531E2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B8C-3E02-4D9C-AFB3-2F780A8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2E0-2E2B-4F14-BDD4-1A80068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F61-27E5-46EB-A07F-08D7F97D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086-88D1-45E8-B775-0C53868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1D4-B085-49B0-A156-D91BBCF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759-0F18-4F6F-A982-A54A9F9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ED2-9D9B-49CA-AFBE-BAD5D1A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DB7-2277-4483-A554-21B8C473421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opulation Pyram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rrow base to the pyramid, due to low B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ant numbers of people through all bands of working ag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 number of people over 65, which means that there is a high dependent elderly popul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life expectancy, due to good medical care, means that there is a high percentage over 65. This also means that the pyramid is tall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w DR due to good health care. Low infant mortality rate, means that families have less children, but they usually survive to live a long lif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males tend to live longer then ma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de base to the pyramid, due to high BR. This means that there is a high dependent young popul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s decrease as you go up the pyramid, forming the triangular shape of the pyrami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w people over 65, means there is a very small dependent elderly popul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w life expectancy, poor health c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DR and infant mortality rate. Families have more children, as they are not sure how long they might surv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males tend to live longer then ma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mposition of the population of a country can tell you a great deal about its developmen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best way to look at this is by studying 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opulation pyramid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is basically back to back bar graphs, one showing the number of males, the other showing the number of femal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bars represent age bands of 5 year interval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websters-online-dictionary.org/images/wiki/wikipedia/en/thumb/0/0a/Dtm_pyramids.png/450px-Dtm_pyramids.png"/>
          <p:cNvPicPr/>
          <p:nvPr/>
        </p:nvPicPr>
        <p:blipFill>
          <a:blip r:embed="rId1"/>
          <a:stretch/>
        </p:blipFill>
        <p:spPr>
          <a:xfrm>
            <a:off x="30240" y="1700280"/>
            <a:ext cx="920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shap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pyrami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the stage of development that a certain country has reach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pyram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indicate the BR and DR of a count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 a country whose pyramid has a wide base has a high B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numbers rapidly decrease, to form a triangular shaped pyramid, then there must also be a fairly high DR, and so the country is in either the first or second stage of develop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untry in Stage four will have a relatively narrow base, and there will be similar numbers of people in all the bands up until 70, when the numbers will start to f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untry would be one like the UK with good health care, and a high life expecta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 pyramids can also show the percentage of the population, which is described as be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"dependant"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are the groups of people who rely on the economically active members of socie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endants are classified as those under working age (0 - 15 years old) and those who have retired (over 65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rely on the working age group of people between 16 and 6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opulation pyramids can also show significant event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Germany there are far more males between 20 and 35, than there are females of a similar ag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shows up quite clearly on a pyramid, and is due to the huge numbers of male immigrant workers that came into the country through the 1990'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y came to Germany to find work, and left their families at home in places such as Yugoslavia and Turke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type of event that can be traced easily on population pyramids, is the effect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his leads to large in-balances in the population, with far more women than men of fighting age remaining as the men have been killed in batt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pyramids can be used to help planning for the future also, as they can used to project the percentages of certain age-groups in the population over the next 5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way plans can be introduced to cope with the forecast changes, such as the ageing population in the U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DC’s Vs M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s economically developed countries and more economically developed countries both have certain characteristics that can be seen on a population pyrami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03:11Z</dcterms:created>
  <dc:creator>Dell_02</dc:creator>
  <dc:description/>
  <dc:language>en-US</dc:language>
  <cp:lastModifiedBy>Dell_02</cp:lastModifiedBy>
  <dcterms:modified xsi:type="dcterms:W3CDTF">2011-01-25T04:21:51Z</dcterms:modified>
  <cp:revision>2</cp:revision>
  <dc:subject/>
  <dc:title>Population Pyramids</dc:title>
</cp:coreProperties>
</file>